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93125-CB65-4DF2-A9CC-901ABB8C3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750D4-87C0-45F8-A1F1-4D78611E2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6FBE7-5A21-41B5-9B1E-6C34D80DE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F155D-885D-4833-B643-BAAB2FE5E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64E78-DBDE-4BFE-9FE9-E5373CB0C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371BC-1FE5-4A06-BF9C-FCE59481F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E828E-0019-4C56-BD30-96621E832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E7814-25FF-47B8-B978-2CFE05BF1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EF407-682A-4874-9A15-428520364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13166-4A1F-4AC6-86A1-064DC425D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29D67-A8C6-452D-827C-F3AF93B74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E08F0-FE48-44FD-98E6-A91F9CDDC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AB9BC-6827-44BD-84DE-A2100A3FCF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08360" y="333000"/>
            <a:ext cx="4749840" cy="32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ociación de la Producción, Industria y Comercio de Corriente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dad fundada el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 de Enero de 192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promover y defender el secto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3" name="" descr=""/>
          <p:cNvPicPr/>
          <p:nvPr/>
        </p:nvPicPr>
        <p:blipFill>
          <a:blip r:embed="rId1"/>
          <a:stretch/>
        </p:blipFill>
        <p:spPr>
          <a:xfrm>
            <a:off x="900000" y="549360"/>
            <a:ext cx="2860920" cy="30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9000"/>
          </a:bodyPr>
          <a:p>
            <a:pPr marL="339480" indent="-3394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t>
            </a:r>
            <a:r>
              <a:rPr b="0" i="1" lang="en-US" sz="3600" spc="-1" strike="noStrike">
                <a:solidFill>
                  <a:srgbClr val="000000"/>
                </a:solidFill>
                <a:latin typeface="Arial"/>
              </a:rPr>
              <a:t>Nada más difícil de emprender ni más peligroso de conducir que tomar la iniciativa en la introducción de un nuevo orden de cosas, porque la innovación tropieza con la hostilidad de todos aquellos a quienes les sonrió la situación anterior y sólo encuentra tibios defensores en quienes esperan beneficios de la nueva”</a:t>
            </a:r>
            <a:br>
              <a:rPr sz="3600"/>
            </a:br>
            <a:r>
              <a:rPr b="0" i="1" lang="en-US" sz="3600" spc="-1" strike="noStrike">
                <a:solidFill>
                  <a:srgbClr val="000000"/>
                </a:solidFill>
                <a:latin typeface="Arial"/>
              </a:rPr>
              <a:t> </a:t>
            </a:r>
            <a:endParaRPr b="0" lang="en-US" sz="3600" spc="-1" strike="noStrike">
              <a:solidFill>
                <a:srgbClr val="000000"/>
              </a:solidFill>
              <a:latin typeface="Arial"/>
            </a:endParaRPr>
          </a:p>
        </p:txBody>
      </p:sp>
      <p:pic>
        <p:nvPicPr>
          <p:cNvPr id="45" name="" descr=""/>
          <p:cNvPicPr/>
          <p:nvPr/>
        </p:nvPicPr>
        <p:blipFill>
          <a:blip r:embed="rId1"/>
          <a:stretch/>
        </p:blipFill>
        <p:spPr>
          <a:xfrm>
            <a:off x="7883640" y="5516640"/>
            <a:ext cx="1260360" cy="134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Camino Propuesto por la UNNE</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conformación de una unidad pública – académica - privad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da a promover el fortalecimiento de las relaciones del sector científico – tecnológico en su vinculación con el medio socio productivo a efectos 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ibuir al desarrollo local sustent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7883640" y="5516640"/>
            <a:ext cx="1260360" cy="134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tivos Institucionales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dyuvar 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r empres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r Emprendedo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 desarrollo socio económico local y reg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 desarrollo tecnológico</a:t>
            </a:r>
            <a:endParaRPr b="0" lang="en-US" sz="3200" spc="-1" strike="noStrike">
              <a:solidFill>
                <a:srgbClr val="000000"/>
              </a:solidFill>
              <a:latin typeface="Arial"/>
            </a:endParaRPr>
          </a:p>
        </p:txBody>
      </p:sp>
      <p:pic>
        <p:nvPicPr>
          <p:cNvPr id="51" name="" descr=""/>
          <p:cNvPicPr/>
          <p:nvPr/>
        </p:nvPicPr>
        <p:blipFill>
          <a:blip r:embed="rId1"/>
          <a:stretch/>
        </p:blipFill>
        <p:spPr>
          <a:xfrm>
            <a:off x="7883640" y="5516640"/>
            <a:ext cx="1260360" cy="134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cipación Institucional</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izar el crecimiento de empresas y el fruto de la investigación científica – tecnológic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izando los riesgos durante las etapas iniciales del negocio motivados por:</a:t>
            </a:r>
            <a:endParaRPr b="0" lang="en-US" sz="3200" spc="-1" strike="noStrike">
              <a:solidFill>
                <a:srgbClr val="000000"/>
              </a:solidFill>
              <a:latin typeface="Arial"/>
            </a:endParaRPr>
          </a:p>
        </p:txBody>
      </p:sp>
      <p:pic>
        <p:nvPicPr>
          <p:cNvPr id="54" name="" descr=""/>
          <p:cNvPicPr/>
          <p:nvPr/>
        </p:nvPicPr>
        <p:blipFill>
          <a:blip r:embed="rId1"/>
          <a:stretch/>
        </p:blipFill>
        <p:spPr>
          <a:xfrm>
            <a:off x="7883640" y="5516640"/>
            <a:ext cx="1260360" cy="134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cipación Institucional</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ta de espacios para el desarrollo de empresas de riesg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adecuada infraestructur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eficientes procesos de comercialización de los resultados de las investigacion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adecuadas actitudes empresaria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encia de una </a:t>
            </a:r>
            <a:r>
              <a:rPr b="0" i="1" lang="en-US" sz="3200" spc="-1" strike="noStrike">
                <a:solidFill>
                  <a:srgbClr val="000000"/>
                </a:solidFill>
                <a:latin typeface="Arial"/>
              </a:rPr>
              <a:t>cultura del desarrollo</a:t>
            </a:r>
            <a:r>
              <a:rPr b="0" lang="en-US" sz="3200" spc="-1" strike="noStrike">
                <a:solidFill>
                  <a:srgbClr val="000000"/>
                </a:solidFill>
                <a:latin typeface="Arial"/>
              </a:rPr>
              <a:t> 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 pobre red de negocios. </a:t>
            </a:r>
            <a:endParaRPr b="0" lang="en-US" sz="3200" spc="-1" strike="noStrike">
              <a:solidFill>
                <a:srgbClr val="000000"/>
              </a:solidFill>
              <a:latin typeface="Arial"/>
            </a:endParaRPr>
          </a:p>
        </p:txBody>
      </p:sp>
      <p:pic>
        <p:nvPicPr>
          <p:cNvPr id="57" name="" descr=""/>
          <p:cNvPicPr/>
          <p:nvPr/>
        </p:nvPicPr>
        <p:blipFill>
          <a:blip r:embed="rId1"/>
          <a:stretch/>
        </p:blipFill>
        <p:spPr>
          <a:xfrm>
            <a:off x="7883640" y="5516640"/>
            <a:ext cx="1260360" cy="134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o ello para genera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consecuencia de la actividad económica, </a:t>
            </a: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a  mejor calidad de vida para los habitantes de la región </a:t>
            </a:r>
            <a:endParaRPr b="0" lang="en-US" sz="4000" spc="-1" strike="noStrike">
              <a:solidFill>
                <a:srgbClr val="000000"/>
              </a:solidFill>
              <a:latin typeface="Arial"/>
            </a:endParaRPr>
          </a:p>
        </p:txBody>
      </p:sp>
      <p:pic>
        <p:nvPicPr>
          <p:cNvPr id="59" name="" descr=""/>
          <p:cNvPicPr/>
          <p:nvPr/>
        </p:nvPicPr>
        <p:blipFill>
          <a:blip r:embed="rId1"/>
          <a:stretch/>
        </p:blipFill>
        <p:spPr>
          <a:xfrm>
            <a:off x="7883640" y="5516640"/>
            <a:ext cx="1260360" cy="134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6T22:47:42Z</dcterms:created>
  <dc:creator>GERENTE</dc:creator>
  <dc:description/>
  <dc:language>en-US</dc:language>
  <cp:lastModifiedBy>GERENTE</cp:lastModifiedBy>
  <dcterms:modified xsi:type="dcterms:W3CDTF">2007-05-16T23:26:23Z</dcterms:modified>
  <cp:revision>5</cp:revision>
  <dc:subject/>
  <dc:title>Asociación de la Producción, Industria y Comercio de Corrientes</dc:title>
</cp:coreProperties>
</file>